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1DC-8855-4FFC-AC39-9BF08D72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663-4873-484C-87AE-8C898D03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713-EF4D-4745-BA7B-7E710A48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1B5-6D53-4875-85E6-52BAA09D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C68-E4C0-4C68-A45F-1E326BC1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02F-C65E-477E-8F53-297D5FDC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FAA-DF4B-4D06-95DC-2E80FF64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518-8D88-4DFA-A3C0-BCDC535F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63C-DB1A-497C-9261-4D1808A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934-5AED-4691-8E8E-5D123CA2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BA7-6477-483A-8B52-EBB06DA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A65-56AE-4901-8547-097070B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605F-1BE0-4254-BC81-F0F51DF0CF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1856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Sigma sol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ermutations and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143240" y="528624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6 possibilities for the third digit    – 3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2"/>
          <p:cNvSpPr/>
          <p:nvPr/>
        </p:nvSpPr>
        <p:spPr>
          <a:xfrm>
            <a:off x="2643120" y="5072040"/>
            <a:ext cx="3857760" cy="571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608120" y="3143160"/>
                <a:ext cx="23875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5"/>
          <p:cNvSpPr/>
          <p:nvPr/>
        </p:nvSpPr>
        <p:spPr>
          <a:xfrm>
            <a:off x="2357280" y="514368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3024 different PINS are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1714680" y="4071960"/>
                <a:ext cx="14461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Text Box 5"/>
          <p:cNvSpPr/>
          <p:nvPr/>
        </p:nvSpPr>
        <p:spPr>
          <a:xfrm>
            <a:off x="3429000" y="421488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ame as saying:  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8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7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. 8.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ge 1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Order matters so still perm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00040" y="50720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00040" y="507204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00040" y="5072040"/>
            <a:ext cx="8358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or  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6429240" y="6143760"/>
            <a:ext cx="235764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99680" y="100008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500040" y="5072040"/>
            <a:ext cx="8358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or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8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7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1680 P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7"/>
          <p:cNvSpPr/>
          <p:nvPr/>
        </p:nvSpPr>
        <p:spPr>
          <a:xfrm>
            <a:off x="2786040" y="6143760"/>
            <a:ext cx="235764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99680" y="856800"/>
            <a:ext cx="86439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c) Calculate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that a client is given a PIN number starting with an odd di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0" y="3714840"/>
            <a:ext cx="8715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PINS starting with an odd digit (from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2786040"/>
            <a:ext cx="8929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otal number poss. PIN numbers (from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3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0" y="4572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(1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digit is odd)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2857680" y="4500720"/>
                <a:ext cx="4798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INS starting with an odd digit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IN number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2928960" y="5357880"/>
                <a:ext cx="7542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80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24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214200" y="55008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3143160" y="6127920"/>
                <a:ext cx="3301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Text Box 5"/>
          <p:cNvSpPr/>
          <p:nvPr/>
        </p:nvSpPr>
        <p:spPr>
          <a:xfrm>
            <a:off x="21420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NZ" sz="22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(i.e. 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339933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339933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6"/>
          <p:cNvSpPr/>
          <p:nvPr/>
        </p:nvSpPr>
        <p:spPr>
          <a:xfrm>
            <a:off x="5357880" y="5572080"/>
            <a:ext cx="3643200" cy="7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57120" y="557208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26 000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different ‘numb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85840" y="45007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So number of possible ‘numbers’  =   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357120" y="50007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or  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would end in the numbers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epeats still allowed (i.e.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replacement) so the number of possibilities for the other positions st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928800" y="38577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000080" y="4214880"/>
            <a:ext cx="714600" cy="57132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2643120" y="4214880"/>
            <a:ext cx="714600" cy="5713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3500280" y="4214880"/>
            <a:ext cx="714600" cy="5713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572080" y="4214880"/>
            <a:ext cx="714600" cy="571320"/>
          </a:xfrm>
          <a:prstGeom prst="rect">
            <a:avLst/>
          </a:prstGeom>
          <a:solidFill>
            <a:srgbClr val="ffc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28920" y="38577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2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4929120" y="38577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Last digit is either 8 or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8"/>
          <p:cNvSpPr/>
          <p:nvPr/>
        </p:nvSpPr>
        <p:spPr>
          <a:xfrm>
            <a:off x="5357880" y="6000840"/>
            <a:ext cx="3643200" cy="85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would end in the numbers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epeats still allowed (i.e.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replacement) so the number of possibilities for the other positions st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928800" y="38577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00080" y="4214880"/>
            <a:ext cx="714600" cy="57132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643120" y="4214880"/>
            <a:ext cx="714600" cy="5713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3500280" y="4214880"/>
            <a:ext cx="714600" cy="5713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5572080" y="4214880"/>
            <a:ext cx="714600" cy="571320"/>
          </a:xfrm>
          <a:prstGeom prst="rect">
            <a:avLst/>
          </a:prstGeom>
          <a:solidFill>
            <a:srgbClr val="ffc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428920" y="38577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2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929120" y="38577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Last digit is either 8 or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357960" y="4286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2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285840" y="49561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So number of possible ‘numbers’  =   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57120" y="545616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or  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2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357120" y="602784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5 200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different ‘numb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ossible ending in 8 or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7"/>
          <p:cNvSpPr/>
          <p:nvPr/>
        </p:nvSpPr>
        <p:spPr>
          <a:xfrm>
            <a:off x="3857760" y="6143760"/>
            <a:ext cx="235728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99680" y="856800"/>
            <a:ext cx="86439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c) Calculate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f choosing an invoice that does not contain the number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NZ" sz="2400" spc="-1" strike="noStrike">
                <a:solidFill>
                  <a:srgbClr val="0000ff"/>
                </a:solidFill>
                <a:latin typeface="Arial"/>
              </a:rPr>
              <a:t>(NCEA Merit level)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0" y="371484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invoice numbers not containing a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18 9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0" y="27860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otal number poss. invoice ‘numbers’ (from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26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0" y="4572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(does not contain a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3741840" y="4500720"/>
                <a:ext cx="5175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voice numbers not containing a 1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voice number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3917880" y="5357880"/>
                <a:ext cx="9190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54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000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Text Box 5"/>
          <p:cNvSpPr/>
          <p:nvPr/>
        </p:nvSpPr>
        <p:spPr>
          <a:xfrm>
            <a:off x="1071720" y="550080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28592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0.729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NZ" sz="22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7"/>
          <p:cNvSpPr/>
          <p:nvPr/>
        </p:nvSpPr>
        <p:spPr>
          <a:xfrm>
            <a:off x="4714920" y="6143760"/>
            <a:ext cx="385776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A cricket team of 11 is to be chosen from a squad of 14, 2 of whom are brothers.  Find the probability tha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(a) Both brothers are chos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0" y="342900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here is only one way of selecting both brothers: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0" y="2643120"/>
            <a:ext cx="892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umber poss. combinations for the 1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36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0" y="4572000"/>
            <a:ext cx="8929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P(selecting both brothers in the 11)  =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4572000" y="4500720"/>
                <a:ext cx="440532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ays of selecting 9 non-brothers from 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mbinations for the 11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4643280" y="5214960"/>
                <a:ext cx="684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Text Box 5"/>
          <p:cNvSpPr/>
          <p:nvPr/>
        </p:nvSpPr>
        <p:spPr>
          <a:xfrm>
            <a:off x="1071720" y="550080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28592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or  0.6044 (4sf) 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0" y="1857240"/>
            <a:ext cx="892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his is a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on-only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problem (note the word ‘chosen’).  Order is not important.  So we’re dealing with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0" y="392904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umber of ways of selecting the other 9 from the other 12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22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4786200" y="6126120"/>
                <a:ext cx="401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7"/>
          <p:cNvSpPr/>
          <p:nvPr/>
        </p:nvSpPr>
        <p:spPr>
          <a:xfrm>
            <a:off x="4714920" y="6143760"/>
            <a:ext cx="385776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A cricket team of 11 is to be chosen from a squad of 14, 2 of whom are brothers.  Find the probability tha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Neither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rother is chos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342900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here is only one way of selecting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neither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brother: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0" y="2643120"/>
            <a:ext cx="892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umber poss. combinations for the 1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36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0" y="4572000"/>
            <a:ext cx="8929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neither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ro. in the 11)  =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4524480" y="4500720"/>
                <a:ext cx="450216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ays of selecting 11 non-brothers from 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mbinations for the 11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4643280" y="5214960"/>
                <a:ext cx="684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Text Box 5"/>
          <p:cNvSpPr/>
          <p:nvPr/>
        </p:nvSpPr>
        <p:spPr>
          <a:xfrm>
            <a:off x="1071720" y="550080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28592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or  0.03297 (4sf) 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0" y="1857240"/>
            <a:ext cx="892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till is a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on-only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problem (note the word ‘chosen’).  Order is not important.  So we’re dealing with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0" y="392904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all 11 from the 12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-brother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4"/>
              <p:cNvSpPr txBox="1"/>
              <p:nvPr/>
            </p:nvSpPr>
            <p:spPr>
              <a:xfrm>
                <a:off x="4797360" y="6126120"/>
                <a:ext cx="378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7"/>
          <p:cNvSpPr/>
          <p:nvPr/>
        </p:nvSpPr>
        <p:spPr>
          <a:xfrm>
            <a:off x="3786120" y="6143760"/>
            <a:ext cx="385776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A cricket team of 11 is to be chosen from a squad of 14, 2 of whom are brothers.  Find the probability tha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Only one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rother is chosen.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0" y="342900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 brother from 2: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2 (could pick either br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0" y="2643120"/>
            <a:ext cx="892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umber poss. combinations for the 1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36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0" y="457200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bro. in the 11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3841920" y="4500720"/>
                <a:ext cx="530208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1bro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10 non-b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mbinations for the 11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741840" y="5214960"/>
                <a:ext cx="12031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Text Box 5"/>
          <p:cNvSpPr/>
          <p:nvPr/>
        </p:nvSpPr>
        <p:spPr>
          <a:xfrm>
            <a:off x="1071720" y="550080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28592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or  0.3626 (4sf) 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0" y="1857240"/>
            <a:ext cx="892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till is a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on-only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problem (note the word ‘chosen’).  Order is not important.  So we’re dealing with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0" y="392904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0 from the 12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-brother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6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3917880" y="6126120"/>
                <a:ext cx="401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1"/>
          <p:cNvSpPr/>
          <p:nvPr/>
        </p:nvSpPr>
        <p:spPr>
          <a:xfrm>
            <a:off x="1928880" y="5572080"/>
            <a:ext cx="121428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 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=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red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3094200" y="3500280"/>
                <a:ext cx="4970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0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3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3117960" y="4143240"/>
                <a:ext cx="11095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8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3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3143160" y="4857840"/>
                <a:ext cx="401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0 of the 6 red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red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95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1"/>
          <p:cNvSpPr/>
          <p:nvPr/>
        </p:nvSpPr>
        <p:spPr>
          <a:xfrm>
            <a:off x="3143160" y="5572080"/>
            <a:ext cx="121464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 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=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red ball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3103560" y="3500280"/>
                <a:ext cx="49514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1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2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3129120" y="4143240"/>
                <a:ext cx="10857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2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3154320" y="4857840"/>
                <a:ext cx="378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 of the 6 red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red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1"/>
          <p:cNvSpPr/>
          <p:nvPr/>
        </p:nvSpPr>
        <p:spPr>
          <a:xfrm>
            <a:off x="4357800" y="5572080"/>
            <a:ext cx="128592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 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red ball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3103560" y="3500280"/>
                <a:ext cx="49514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2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1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3129120" y="4143240"/>
                <a:ext cx="10857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3200400" y="4857840"/>
                <a:ext cx="284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8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2 of the 6 red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red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1"/>
          <p:cNvSpPr/>
          <p:nvPr/>
        </p:nvSpPr>
        <p:spPr>
          <a:xfrm>
            <a:off x="5572080" y="5572080"/>
            <a:ext cx="128592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 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red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3094200" y="3500280"/>
                <a:ext cx="4970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3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0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"/>
              <p:cNvSpPr txBox="1"/>
              <p:nvPr/>
            </p:nvSpPr>
            <p:spPr>
              <a:xfrm>
                <a:off x="3117960" y="4143240"/>
                <a:ext cx="11095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4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0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4"/>
              <p:cNvSpPr txBox="1"/>
              <p:nvPr/>
            </p:nvSpPr>
            <p:spPr>
              <a:xfrm>
                <a:off x="3200400" y="4857840"/>
                <a:ext cx="284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8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3 of the 6 red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 2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red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3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9"/>
              <p:cNvSpPr txBox="1"/>
              <p:nvPr/>
            </p:nvSpPr>
            <p:spPr>
              <a:xfrm>
                <a:off x="600084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3"/>
          <p:cNvSpPr/>
          <p:nvPr/>
        </p:nvSpPr>
        <p:spPr>
          <a:xfrm>
            <a:off x="2928960" y="4572000"/>
            <a:ext cx="3786120" cy="85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. (b)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is the number of red balls obtained, find an expression for P(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).  The expression should use combination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(NCEA Excellence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0" y="3929040"/>
            <a:ext cx="892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i="1" lang="en-N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red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2"/>
              <p:cNvSpPr txBox="1"/>
              <p:nvPr/>
            </p:nvSpPr>
            <p:spPr>
              <a:xfrm>
                <a:off x="2868480" y="3857760"/>
                <a:ext cx="541980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x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-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3071880" y="4572000"/>
                <a:ext cx="14176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Text Box 5"/>
          <p:cNvSpPr/>
          <p:nvPr/>
        </p:nvSpPr>
        <p:spPr>
          <a:xfrm>
            <a:off x="214200" y="47149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       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0" y="3143160"/>
            <a:ext cx="9144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(3-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</a:rPr>
              <a:t>(3-</a:t>
            </a:r>
            <a:r>
              <a:rPr b="1" i="1" lang="en-NZ" sz="25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0" y="2714760"/>
            <a:ext cx="87152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of the 6 red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NZ" sz="25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red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600084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57120" y="542916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9 possibilities for the first 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Three people each have a pair of socks, which are all washed one day then returned at random.  What is the probability that a particular person gets their own pair of socks back?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1"/>
          <p:cNvSpPr/>
          <p:nvPr/>
        </p:nvSpPr>
        <p:spPr>
          <a:xfrm>
            <a:off x="3071880" y="5786280"/>
            <a:ext cx="1071360" cy="928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0" y="414324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a given pair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2"/>
              <p:cNvSpPr txBox="1"/>
              <p:nvPr/>
            </p:nvSpPr>
            <p:spPr>
              <a:xfrm>
                <a:off x="2995560" y="4071960"/>
                <a:ext cx="5165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a specific pai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ways of selecting any 2 socks  from 6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3389400" y="4929120"/>
                <a:ext cx="5666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0" name="Text Box 5"/>
          <p:cNvSpPr/>
          <p:nvPr/>
        </p:nvSpPr>
        <p:spPr>
          <a:xfrm>
            <a:off x="214200" y="500076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571680" y="607212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0" y="328608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a specific pair (selecting 2 socks from 2)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4"/>
              <p:cNvSpPr txBox="1"/>
              <p:nvPr/>
            </p:nvSpPr>
            <p:spPr>
              <a:xfrm>
                <a:off x="3286080" y="5929200"/>
                <a:ext cx="379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Text Box 5"/>
          <p:cNvSpPr/>
          <p:nvPr/>
        </p:nvSpPr>
        <p:spPr>
          <a:xfrm>
            <a:off x="0" y="285768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umber of ways of selecting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any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2 socks from the 6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 1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42920" y="2000160"/>
            <a:ext cx="871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election only.  Order doesn’t matter (left sock same as right sock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ombin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-36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Without replacement.  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ng only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o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order doesn’t matter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br of possible selections of ANY 5 cards     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5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2 598 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umber of possible ‘flushes’ – i.e. selections of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Without replacement.   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ng only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o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order doesn’t matter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br of possible selections of ANY 5 cards     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5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2 598 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umber of possible ‘flushes’ – i.e. selections of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2100" spc="-1" strike="noStrike" baseline="30000">
                <a:solidFill>
                  <a:srgbClr val="ff0000"/>
                </a:solidFill>
                <a:latin typeface="Arial"/>
              </a:rPr>
              <a:t>13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Without replacement.   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ng only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o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order doesn’t matter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br of possible selections of ANY 5 cards     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5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2 598 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umber of possible ‘flushes’ – i.e. selections of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2100" spc="-1" strike="noStrike" baseline="30000">
                <a:solidFill>
                  <a:srgbClr val="ff0000"/>
                </a:solidFill>
                <a:latin typeface="Arial"/>
              </a:rPr>
              <a:t>13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(i.e. 4 suits – each has 13 cards and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we’re choosing 5 of the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5148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ossible selections of 5 of same sui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Without replacement.   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ng only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o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order doesn’t matter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br of possible selections of ANY 5 cards     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5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2 598 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umber of possible ‘flushes’ – i.e. selections of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2100" spc="-1" strike="noStrike" baseline="30000">
                <a:solidFill>
                  <a:srgbClr val="ff0000"/>
                </a:solidFill>
                <a:latin typeface="Arial"/>
              </a:rPr>
              <a:t>13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(i.e. 4 suits – each has 13 card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5148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possible selections of 5 of same sui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"/>
          <p:cNvSpPr/>
          <p:nvPr/>
        </p:nvSpPr>
        <p:spPr>
          <a:xfrm>
            <a:off x="2857680" y="6110280"/>
            <a:ext cx="4857480" cy="747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500040" y="4714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getting a flush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2666880" y="4714920"/>
                <a:ext cx="49705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ossible  selections  of 5 of the same sui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possible  selections  of ANY  5 card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3025800" y="5396040"/>
                <a:ext cx="781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Text Box 5"/>
          <p:cNvSpPr/>
          <p:nvPr/>
        </p:nvSpPr>
        <p:spPr>
          <a:xfrm>
            <a:off x="0" y="54673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214200" y="621504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 or  0.001981 (4sf)    </a:t>
            </a:r>
            <a:r>
              <a:rPr b="0" i="1" lang="en-NZ" sz="24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4"/>
              <p:cNvSpPr txBox="1"/>
              <p:nvPr/>
            </p:nvSpPr>
            <p:spPr>
              <a:xfrm>
                <a:off x="2855880" y="6114960"/>
                <a:ext cx="819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6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-36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2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4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2920" y="550080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52 possibilities for the first card (could be any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42920" y="550080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52 possibilities for the first card (could be any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571760" y="564372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2 possibilities for the second card (the other 12 from the same s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1571760" y="564372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2 possibilities for the second card (the other 12 from the same s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2643120" y="52862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1 possibilities for the 3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2 used up, so 11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2643120" y="52862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1 possibilities for the 3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2 used up, so 11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3857760" y="528624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0 possibilities for the 4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3 used up, so 10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857760" y="528624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0 possibilities for the 4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3 used up, so 10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4857840" y="5214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9 possibilities for the 5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4 used up, so 9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4857840" y="5214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9 possibilities for the 5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4 used up, so 9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4857840" y="5214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9 possibilities for the 5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4 used up, so 9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1071720" y="5286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2286000" y="5286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1"/>
          <p:cNvSpPr/>
          <p:nvPr/>
        </p:nvSpPr>
        <p:spPr>
          <a:xfrm>
            <a:off x="3500280" y="528624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2"/>
          <p:cNvSpPr/>
          <p:nvPr/>
        </p:nvSpPr>
        <p:spPr>
          <a:xfrm>
            <a:off x="4714920" y="5286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3"/>
          <p:cNvSpPr/>
          <p:nvPr/>
        </p:nvSpPr>
        <p:spPr>
          <a:xfrm>
            <a:off x="5929200" y="528624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4"/>
          <p:cNvSpPr/>
          <p:nvPr/>
        </p:nvSpPr>
        <p:spPr>
          <a:xfrm>
            <a:off x="1714680" y="528624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5"/>
          <p:cNvSpPr/>
          <p:nvPr/>
        </p:nvSpPr>
        <p:spPr>
          <a:xfrm>
            <a:off x="2928960" y="528624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6"/>
          <p:cNvSpPr/>
          <p:nvPr/>
        </p:nvSpPr>
        <p:spPr>
          <a:xfrm>
            <a:off x="4071960" y="528624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7"/>
          <p:cNvSpPr/>
          <p:nvPr/>
        </p:nvSpPr>
        <p:spPr>
          <a:xfrm>
            <a:off x="5357880" y="528624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643040" y="52862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8 possibilities for the second digit – one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3"/>
          <p:cNvSpPr/>
          <p:nvPr/>
        </p:nvSpPr>
        <p:spPr>
          <a:xfrm>
            <a:off x="0" y="28584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5"/>
          <p:cNvSpPr/>
          <p:nvPr/>
        </p:nvSpPr>
        <p:spPr>
          <a:xfrm>
            <a:off x="1143000" y="1857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6"/>
          <p:cNvSpPr/>
          <p:nvPr/>
        </p:nvSpPr>
        <p:spPr>
          <a:xfrm>
            <a:off x="2357280" y="185724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7"/>
          <p:cNvSpPr/>
          <p:nvPr/>
        </p:nvSpPr>
        <p:spPr>
          <a:xfrm>
            <a:off x="3571920" y="1857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8"/>
          <p:cNvSpPr/>
          <p:nvPr/>
        </p:nvSpPr>
        <p:spPr>
          <a:xfrm>
            <a:off x="4786200" y="185724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9"/>
          <p:cNvSpPr/>
          <p:nvPr/>
        </p:nvSpPr>
        <p:spPr>
          <a:xfrm>
            <a:off x="6000840" y="1857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0"/>
          <p:cNvSpPr/>
          <p:nvPr/>
        </p:nvSpPr>
        <p:spPr>
          <a:xfrm>
            <a:off x="1785960" y="185724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1"/>
          <p:cNvSpPr/>
          <p:nvPr/>
        </p:nvSpPr>
        <p:spPr>
          <a:xfrm>
            <a:off x="3000240" y="185724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2"/>
          <p:cNvSpPr/>
          <p:nvPr/>
        </p:nvSpPr>
        <p:spPr>
          <a:xfrm>
            <a:off x="4143240" y="185724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3"/>
          <p:cNvSpPr/>
          <p:nvPr/>
        </p:nvSpPr>
        <p:spPr>
          <a:xfrm>
            <a:off x="5429160" y="185724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0"/>
          <p:cNvSpPr/>
          <p:nvPr/>
        </p:nvSpPr>
        <p:spPr>
          <a:xfrm>
            <a:off x="1143000" y="3786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2357280" y="3786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2"/>
          <p:cNvSpPr/>
          <p:nvPr/>
        </p:nvSpPr>
        <p:spPr>
          <a:xfrm>
            <a:off x="3571920" y="3786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3"/>
          <p:cNvSpPr/>
          <p:nvPr/>
        </p:nvSpPr>
        <p:spPr>
          <a:xfrm>
            <a:off x="4786200" y="3786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4"/>
          <p:cNvSpPr/>
          <p:nvPr/>
        </p:nvSpPr>
        <p:spPr>
          <a:xfrm>
            <a:off x="6000840" y="3786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5"/>
          <p:cNvSpPr/>
          <p:nvPr/>
        </p:nvSpPr>
        <p:spPr>
          <a:xfrm>
            <a:off x="1785960" y="378612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6"/>
          <p:cNvSpPr/>
          <p:nvPr/>
        </p:nvSpPr>
        <p:spPr>
          <a:xfrm>
            <a:off x="3000240" y="378612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7"/>
          <p:cNvSpPr/>
          <p:nvPr/>
        </p:nvSpPr>
        <p:spPr>
          <a:xfrm>
            <a:off x="4143240" y="378612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8"/>
          <p:cNvSpPr/>
          <p:nvPr/>
        </p:nvSpPr>
        <p:spPr>
          <a:xfrm>
            <a:off x="5429160" y="378612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9"/>
          <p:cNvSpPr/>
          <p:nvPr/>
        </p:nvSpPr>
        <p:spPr>
          <a:xfrm>
            <a:off x="2857680" y="5896080"/>
            <a:ext cx="4857480" cy="747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500040" y="45007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getting a flush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2"/>
              <p:cNvSpPr txBox="1"/>
              <p:nvPr/>
            </p:nvSpPr>
            <p:spPr>
              <a:xfrm>
                <a:off x="2928960" y="4500720"/>
                <a:ext cx="444348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ossible 'flushes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rrangements of 5 card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3"/>
              <p:cNvSpPr txBox="1"/>
              <p:nvPr/>
            </p:nvSpPr>
            <p:spPr>
              <a:xfrm>
                <a:off x="2857680" y="5143680"/>
                <a:ext cx="21319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8" name="Text Box 5"/>
          <p:cNvSpPr/>
          <p:nvPr/>
        </p:nvSpPr>
        <p:spPr>
          <a:xfrm>
            <a:off x="0" y="52531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214200" y="600084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 or  0.001981 (4sf)    </a:t>
            </a:r>
            <a:r>
              <a:rPr b="0" i="1" lang="en-NZ" sz="24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4"/>
              <p:cNvSpPr txBox="1"/>
              <p:nvPr/>
            </p:nvSpPr>
            <p:spPr>
              <a:xfrm>
                <a:off x="2855880" y="5900760"/>
                <a:ext cx="819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6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928960" y="5286240"/>
            <a:ext cx="40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7 possibilities for the third digit    – 2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3:37:48Z</dcterms:created>
  <dc:creator>Jeremy Brocklehurst</dc:creator>
  <dc:description/>
  <dc:language>en-US</dc:language>
  <cp:lastModifiedBy>Jeremy Brocklehurst</cp:lastModifiedBy>
  <dcterms:modified xsi:type="dcterms:W3CDTF">2011-04-03T09:43:53Z</dcterms:modified>
  <cp:revision>105</cp:revision>
  <dc:subject>Year 13 Statistics &amp; Modelling</dc:subject>
  <dc:title>Sigma solutions</dc:title>
</cp:coreProperties>
</file>